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99A-78D4-42EC-ACE0-D9C0BE67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348-68F4-41CD-B365-ED17F293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2B5-C32D-42F3-8AB9-029DD4D0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A93-BCA0-4F41-BECD-98170643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55B-860F-4E8D-A6D4-48C39159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3C6-3710-43A2-B9EC-2CAD0CE1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D07-5923-433B-B787-AE4A1338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4AA-3C00-4CC9-9986-BE51A1B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9BE-E78D-4CFB-84D7-50927112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42F-B864-44EB-B898-847D715B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EB5-3645-47F4-A874-D085532B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3BC-489F-4874-8AC3-2F74222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024-22CD-44E0-ABF5-459D16A7D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ohn_Wilkes_Booth" TargetMode="External"/><Relationship Id="rId2" Type="http://schemas.openxmlformats.org/officeDocument/2006/relationships/hyperlink" Target="http://www.law.umkc.edu/faculty/projects/ftrials/lincolnconspiracy/booth.html" TargetMode="External"/><Relationship Id="rId3" Type="http://schemas.openxmlformats.org/officeDocument/2006/relationships/hyperlink" Target="http://en.wikipedia.org/wiki/Abraham_Lincoln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ilkes B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rstin Fuhr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ytee Kaltr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8288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1174000">
            <a:off x="838080" y="3885840"/>
            <a:ext cx="162720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415000">
            <a:off x="1752120" y="4724280"/>
            <a:ext cx="457200" cy="260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33720" y="4724280"/>
            <a:ext cx="9504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0046 C 0.02084 -0.00555 0.03438 -0.01156 0.05504 -0.0333 C 0.0757 -0.05503 0.08212 -0.08486 0.13125 -0.13064 C 0.18038 -0.17642 0.31597 -0.25017 0.35035 -0.30821 C 0.38472 -0.36624 0.32743 -0.43353 0.33768 -0.47931 C 0.34792 -0.52509 0.38872 -0.55861 0.41233 -0.58289 C 0.43594 -0.60717 0.45764 -0.62798 0.47899 -0.6252 C 0.50035 -0.62243 0.52813 -0.57665 0.5408 -0.56601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coln’s Assass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shot Lincoln in the back of the head with a gun while he was watching a play “Our American Cous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didn’t survive and they were going to sue the medical provider because they thought that he might have pushed the bullet in farther causing him to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John_Wilkes_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w.umkc.edu/faculty/projects/ftrials/lincolnconspiracy/booth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Abraham_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will lea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John Wilkes Bo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s assass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ilkes Booth childh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May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38 and died April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65 at age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 out 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parents were never married, his mom Mary Ann Holmes was his fathers mi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2291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ilkes Booth’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n 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joined the Virginia militia company that was assisted in the capture of John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know for his acting, and both the Northern and Southern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John Wilkes B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l know Booth for being the guy who assassinated Lincoln, but that’s no the only thing he was known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theatrical potential at a young age, he also was emotionally in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pl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just going to first abduct him on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n he decided he would just be better off killing the man so that’s what he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got a couple of his friend or workers or something together and they all had one person they were supposed to go for and do someth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President-Andrew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 of State-William St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February 1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09 in Hardin County,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4 children and only 1 lived to reach mat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ied Mary Todd and prominent slave-owning family from Kent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came to women Lincoln wasn’t a lucky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st his wife with the typhoid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 was rejected a coupl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6:10:42Z</dcterms:created>
  <dc:creator>kirstinjfuhrman</dc:creator>
  <dc:description/>
  <dc:language>en-US</dc:language>
  <cp:lastModifiedBy>kirstinjfuhrman</cp:lastModifiedBy>
  <dcterms:modified xsi:type="dcterms:W3CDTF">2009-03-26T15:53:59Z</dcterms:modified>
  <cp:revision>6</cp:revision>
  <dc:subject/>
  <dc:title>John Wilkes Booth</dc:title>
</cp:coreProperties>
</file>